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25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3.jpeg" ContentType="image/jpeg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13.png" ContentType="image/png"/>
  <Override PartName="/ppt/media/image27.jpeg" ContentType="image/jpeg"/>
  <Override PartName="/ppt/media/image50.jpeg" ContentType="image/jpeg"/>
  <Override PartName="/ppt/media/image28.jpeg" ContentType="image/jpeg"/>
  <Override PartName="/ppt/media/image5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E0EC-9030-4B9A-8614-DBC7DA924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EE8D-65CD-461C-9630-4B26DDACB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5312-321F-470B-BCFA-32F74A42F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6CB1-8EA2-4649-A8DF-BAE4705B9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CD8D-2473-4344-BD50-BCC1846B2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C047-45C8-4F96-BEA9-FC3F135D5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BDE9-6FB5-4F40-97AE-801F17878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17B7-DB5E-42B7-894D-2910706BB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E648-E90A-4E49-92FC-CBCBF91D9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07A8-5636-4215-8B53-C9C388D7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7A30-2936-4971-ABFF-52647B38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ACEF-A035-449A-A539-270C1D93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4B08D-A178-4DE1-A9DF-0E3C532D5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320" y="228600"/>
            <a:ext cx="3200400" cy="4267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703680" y="152280"/>
            <a:ext cx="3002040" cy="4343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93600" y="4724280"/>
            <a:ext cx="3183120" cy="41734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549600" y="4673520"/>
            <a:ext cx="304020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3073320" cy="4114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500280" y="76320"/>
            <a:ext cx="3281400" cy="4495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575160" y="4724280"/>
            <a:ext cx="2977920" cy="44197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304920" y="548640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76280" y="590400"/>
            <a:ext cx="2857320" cy="38102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733920" y="228600"/>
            <a:ext cx="2743200" cy="4038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3632040" y="4648320"/>
            <a:ext cx="2997360" cy="44956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52280" y="4724280"/>
            <a:ext cx="320544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14480" y="152280"/>
            <a:ext cx="3085920" cy="4114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581280" y="152280"/>
            <a:ext cx="3198960" cy="42674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3517920" y="4648320"/>
            <a:ext cx="3263760" cy="4495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380880" y="4572000"/>
            <a:ext cx="28576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7480" y="0"/>
            <a:ext cx="3265200" cy="4495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505320" y="66600"/>
            <a:ext cx="3265200" cy="4353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80880" y="4876920"/>
            <a:ext cx="285768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3375000" cy="4191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492360" y="4724280"/>
            <a:ext cx="3260880" cy="4162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659040" y="152280"/>
            <a:ext cx="2843280" cy="4267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0" y="4572000"/>
            <a:ext cx="33656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320" y="4800600"/>
            <a:ext cx="3321000" cy="4114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80880" y="0"/>
            <a:ext cx="2946600" cy="4419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657600" y="228600"/>
            <a:ext cx="2857680" cy="42958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3670200" y="4724280"/>
            <a:ext cx="28828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3352680" cy="4191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600360" y="0"/>
            <a:ext cx="3029040" cy="44578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355680" y="4648320"/>
            <a:ext cx="2844720" cy="4267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3648240" y="4648320"/>
            <a:ext cx="3057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80880" y="285840"/>
            <a:ext cx="2857680" cy="39434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648240" y="152280"/>
            <a:ext cx="3057480" cy="4095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0" y="4648320"/>
            <a:ext cx="3375000" cy="42670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3502080" y="5029200"/>
            <a:ext cx="33559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2441520" cy="4267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581280" y="76320"/>
            <a:ext cx="3000600" cy="44956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52280" y="4800600"/>
            <a:ext cx="3140280" cy="4114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3952800" y="4686480"/>
            <a:ext cx="2219400" cy="43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52280" y="76320"/>
            <a:ext cx="3186360" cy="43434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66680" y="4630680"/>
            <a:ext cx="2957400" cy="4437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3495600" y="4876920"/>
            <a:ext cx="3362400" cy="39621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3486240" y="76320"/>
            <a:ext cx="33717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52280" y="133200"/>
            <a:ext cx="3191040" cy="42865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82520" y="4572000"/>
            <a:ext cx="3094200" cy="4572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657600" y="76320"/>
            <a:ext cx="2755800" cy="4343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429000" y="4724280"/>
            <a:ext cx="34844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821040" y="76320"/>
            <a:ext cx="2884680" cy="43434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4952880"/>
            <a:ext cx="3333600" cy="3638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29160" y="4648320"/>
            <a:ext cx="2923920" cy="43718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609480" y="228600"/>
            <a:ext cx="24274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116706</cp:lastModifiedBy>
  <dcterms:modified xsi:type="dcterms:W3CDTF">2009-02-10T19:06:46Z</dcterms:modified>
  <cp:revision>8</cp:revision>
  <dc:subject/>
  <dc:title>Slide 1</dc:title>
</cp:coreProperties>
</file>